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4D8-F81A-4433-88EE-A853B0C7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736-400A-4008-8735-9E2AD22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761-0BDB-446C-AEF6-C0E42CA0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34-5AD6-4460-BE7C-55C46780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654-31B5-4010-9BE0-1B6DE73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007-17C4-4B74-B52D-D81BE806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990-DF15-417B-84C8-1A6075B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5668-7A36-4848-B14F-CE2708C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DDA2-B9F8-4999-90D0-4C9BD95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59B5-619E-4955-8507-3013BB9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7AC-7FE8-4582-B1F3-7D43016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5C6-975A-4B32-88FD-2250541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6AC-63B0-4519-A495-1260A37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01EB-A1BA-4B9B-BEDF-5502E82A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D779-9BE7-4471-9831-BDC6C49E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0763-5838-46A5-84FD-0FFA3757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8EE5-1030-4FF9-9CC4-3781CE12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93-3344-43F7-A219-DEFFEE1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8E7-CDFC-4A0A-BCCF-B370118C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E78-A18D-4752-9585-2CACB9B2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ADC-EE3A-47D2-8528-2512AE5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A4D-A624-4CF1-8C24-E2A7A79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8CE-51F7-4FF3-A653-62BB7BB5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014-00D4-4A41-A37B-93520D3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7F3-971D-4E1F-BB05-E6821C3B4884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A27-936C-4D28-9431-56334DFEF81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quimicabiologicaunsl.wikispaces.com/lic.bioquimica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Black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7 CuadroTexto"/>
          <p:cNvSpPr/>
          <p:nvPr/>
        </p:nvSpPr>
        <p:spPr>
          <a:xfrm>
            <a:off x="2552400" y="11430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NUTR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8 CuadroTexto"/>
          <p:cNvSpPr/>
          <p:nvPr/>
        </p:nvSpPr>
        <p:spPr>
          <a:xfrm>
            <a:off x="3655800" y="4487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250920" y="765000"/>
            <a:ext cx="180000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77840" y="1844640"/>
            <a:ext cx="1800360" cy="863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IZ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34920" y="3068640"/>
            <a:ext cx="1943280" cy="865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HORI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050920" y="836640"/>
            <a:ext cx="576360" cy="3024000"/>
          </a:xfrm>
          <a:custGeom>
            <a:avLst/>
            <a:gdLst>
              <a:gd name="textAreaLeft" fmla="*/ 0 w 576360"/>
              <a:gd name="textAreaRight" fmla="*/ 208080 w 576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698920" y="1844640"/>
            <a:ext cx="172692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(T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333440" y="4365720"/>
            <a:ext cx="2952720" cy="158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RI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H="1">
            <a:off x="4429080" y="5111640"/>
            <a:ext cx="12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5508720" y="1413000"/>
            <a:ext cx="3024000" cy="151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500720" y="24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00720" y="1989000"/>
            <a:ext cx="863280" cy="217800"/>
          </a:xfrm>
          <a:custGeom>
            <a:avLst/>
            <a:gdLst>
              <a:gd name="textAreaLeft" fmla="*/ 150840 w 863280"/>
              <a:gd name="textAreaRight" fmla="*/ 626040 w 863280"/>
              <a:gd name="textAreaTop" fmla="*/ 29160 h 217800"/>
              <a:gd name="textAreaBottom" fmla="*/ 188640 h 21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H="1">
            <a:off x="5076360" y="126828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4643280" y="90792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7020000" y="2997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6156360" y="321300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5796000" y="4076640"/>
            <a:ext cx="2808360" cy="19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+3 AC.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143240" y="4429080"/>
            <a:ext cx="172908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8640" y="785520"/>
            <a:ext cx="8685360" cy="514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l nombre del sustrato o del producto, se le agrega la terminación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Por ejemplo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sacarasa, ureasa, amilasa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la reacción que catalizan, por ej.: 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oxidoreductasa, deshidrogenasa, descarboxilasa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Otras tienen nombres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arbitrarios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,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tialina salival, pepsina del jugo gástrico, tripsina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da enzima tiene un nombre y un numero asignado por la </a:t>
            </a:r>
            <a:r>
              <a:rPr b="1" i="1" lang="es-AR" sz="2400" spc="-1" strike="noStrike">
                <a:solidFill>
                  <a:srgbClr val="e46c0a"/>
                </a:solidFill>
                <a:latin typeface="Calibri"/>
              </a:rPr>
              <a:t>Unión Internacional de Bioquímica y Biología Molec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or ej.: </a:t>
            </a:r>
            <a:r>
              <a:rPr b="1" lang="es-AR" sz="2400" spc="-1" strike="noStrike">
                <a:solidFill>
                  <a:srgbClr val="0000ff"/>
                </a:solidFill>
                <a:latin typeface="Calibri"/>
              </a:rPr>
              <a:t>Lactato deshidrogen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EC 1.1.1.27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4320"/>
            <a:ext cx="8858160" cy="63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omic Sans MS"/>
              </a:rPr>
              <a:t>¿Cómo se denomina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395280" y="5859360"/>
            <a:ext cx="7951680" cy="1371600"/>
            <a:chOff x="395280" y="5859360"/>
            <a:chExt cx="7951680" cy="1371600"/>
          </a:xfrm>
        </p:grpSpPr>
        <p:sp>
          <p:nvSpPr>
            <p:cNvPr id="141" name="Text Box 24"/>
            <p:cNvSpPr/>
            <p:nvPr/>
          </p:nvSpPr>
          <p:spPr>
            <a:xfrm>
              <a:off x="785880" y="6215040"/>
              <a:ext cx="7561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Calibri"/>
                </a:rPr>
                <a:t>Clase    -    subclase    -    subsubclase    -     nº de 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5"/>
            <p:cNvSpPr/>
            <p:nvPr/>
          </p:nvSpPr>
          <p:spPr>
            <a:xfrm>
              <a:off x="395280" y="585936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642960" y="1285920"/>
          <a:ext cx="7872480" cy="5005440"/>
        </p:xfrm>
        <a:graphic>
          <a:graphicData uri="http://schemas.openxmlformats.org/drawingml/2006/table">
            <a:tbl>
              <a:tblPr/>
              <a:tblGrid>
                <a:gridCol w="2624040"/>
                <a:gridCol w="2624040"/>
                <a:gridCol w="2624400"/>
              </a:tblGrid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ASE DE  ENZ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CCIÓN QUE CATALI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buClr>
                          <a:srgbClr val="c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Oxidorreduct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ciones de óxido-re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tato deshidroge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98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.  Transfer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transferencia de un grupo de átomos, como amina, carboxilo, carbonilo, metilo, desde un sustrato considerado donante, a otro compuesto acep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inotranfera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oqui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.  Hidrol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uptura de enlaces C-O, C-N, C-S y O-P por adición de 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atasas, disacarida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.  Li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uptura de uniones C-C, C-S y C-N de la molécula de sustrato, por un proceso distinto al de hidró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ol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.  Isomer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interconversión de isómeros ópticos, geométricos o de pos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sfotriosa isomerasa</a:t>
                      </a: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428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.  Ligasas o sinteta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formación de enlaces entre C y O, S y N acoplada a la hidrólisis de fosfatos de alta energ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ruvato carboxila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400"/>
            </a:b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¿Cómo se clasifican las enzimas?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-Según la reacción que catalizan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T1107"/>
          <p:cNvPicPr/>
          <p:nvPr/>
        </p:nvPicPr>
        <p:blipFill>
          <a:blip r:embed="rId1"/>
          <a:srcRect l="36856" t="11795" r="22331" b="78065"/>
          <a:stretch/>
        </p:blipFill>
        <p:spPr>
          <a:xfrm>
            <a:off x="3467160" y="1714680"/>
            <a:ext cx="503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T1107"/>
          <p:cNvPicPr/>
          <p:nvPr/>
        </p:nvPicPr>
        <p:blipFill>
          <a:blip r:embed="rId2"/>
          <a:srcRect l="33842" t="24640" r="7707" b="59106"/>
          <a:stretch/>
        </p:blipFill>
        <p:spPr>
          <a:xfrm>
            <a:off x="2797200" y="4905360"/>
            <a:ext cx="61326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500040" y="13572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1-OXIDORREDUC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250920" y="43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2-TRANSF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42960" y="1928880"/>
            <a:ext cx="273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Alcohol deshidrogena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1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39640" y="5229360"/>
            <a:ext cx="201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(EC 2.7.1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6"/>
          <p:cNvGrpSpPr/>
          <p:nvPr/>
        </p:nvGrpSpPr>
        <p:grpSpPr>
          <a:xfrm>
            <a:off x="579600" y="3000240"/>
            <a:ext cx="7993080" cy="1145880"/>
            <a:chOff x="579600" y="3000240"/>
            <a:chExt cx="7993080" cy="1145880"/>
          </a:xfrm>
        </p:grpSpPr>
        <p:sp>
          <p:nvSpPr>
            <p:cNvPr id="153" name="Text Box 24"/>
            <p:cNvSpPr/>
            <p:nvPr/>
          </p:nvSpPr>
          <p:spPr>
            <a:xfrm>
              <a:off x="1011240" y="3000240"/>
              <a:ext cx="75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lase    -    subclase    -    subsubclase    -     nº de o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5"/>
            <p:cNvSpPr/>
            <p:nvPr/>
          </p:nvSpPr>
          <p:spPr>
            <a:xfrm>
              <a:off x="579600" y="3360600"/>
              <a:ext cx="7489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actato</a:t>
              </a:r>
              <a:r>
                <a:rPr b="0" lang="es-ES" sz="1800" spc="-1" strike="noStrike">
                  <a:solidFill>
                    <a:srgbClr val="c00000"/>
                  </a:solidFill>
                  <a:latin typeface="Calibri"/>
                </a:rPr>
                <a:t> 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deshidroge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27"/>
          <p:cNvSpPr/>
          <p:nvPr/>
        </p:nvSpPr>
        <p:spPr>
          <a:xfrm flipH="1">
            <a:off x="5354280" y="2449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T1107"/>
          <p:cNvPicPr/>
          <p:nvPr/>
        </p:nvPicPr>
        <p:blipFill>
          <a:blip r:embed="rId1"/>
          <a:srcRect l="36406" t="62681" r="14851" b="28994"/>
          <a:stretch/>
        </p:blipFill>
        <p:spPr>
          <a:xfrm>
            <a:off x="3143160" y="2214720"/>
            <a:ext cx="6002280" cy="874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T1107"/>
          <p:cNvPicPr/>
          <p:nvPr/>
        </p:nvPicPr>
        <p:blipFill>
          <a:blip r:embed="rId2"/>
          <a:srcRect l="37399" t="74977" r="23467" b="16180"/>
          <a:stretch/>
        </p:blipFill>
        <p:spPr>
          <a:xfrm>
            <a:off x="3152880" y="3571920"/>
            <a:ext cx="5983200" cy="1000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T1107"/>
          <p:cNvPicPr/>
          <p:nvPr/>
        </p:nvPicPr>
        <p:blipFill>
          <a:blip r:embed="rId3"/>
          <a:srcRect l="36406" t="88606" r="3389" b="4119"/>
          <a:stretch/>
        </p:blipFill>
        <p:spPr>
          <a:xfrm>
            <a:off x="2571840" y="5357880"/>
            <a:ext cx="6584760" cy="857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468360" y="1928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4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LI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2876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5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ISO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87440" y="50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6. </a:t>
            </a: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LIG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4360" y="2360520"/>
            <a:ext cx="1871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des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4.1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73120" y="3922560"/>
            <a:ext cx="237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Fumarasa ó malato isomer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5.2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701640" y="550080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iruvato carboxil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6.4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428760" y="3571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c00000"/>
                </a:solidFill>
                <a:latin typeface="Calibri"/>
              </a:rPr>
              <a:t>3. HIDROL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717480" y="933480"/>
            <a:ext cx="259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Carboxipeptidas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(EC 3.4.17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3" descr="T1107"/>
          <p:cNvPicPr/>
          <p:nvPr/>
        </p:nvPicPr>
        <p:blipFill>
          <a:blip r:embed="rId4"/>
          <a:srcRect l="36461" t="44470" r="247" b="43358"/>
          <a:stretch/>
        </p:blipFill>
        <p:spPr>
          <a:xfrm>
            <a:off x="3143160" y="874800"/>
            <a:ext cx="600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928800"/>
            <a:ext cx="8229600" cy="51847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TERCIARIA Y CUATERN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TIO DE UNION AL SUSTRATO: 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SITIO A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iones no Covalentes: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Puente de hidrógeno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Hidrofób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Electrostá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ECESITAN DE FACTORES NO ENZIMATICOS: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inorgánic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Meta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 y </a:t>
            </a:r>
            <a:r>
              <a:rPr b="1" lang="es-ES" sz="2400" spc="-1" strike="noStrike">
                <a:solidFill>
                  <a:srgbClr val="0000cc"/>
                </a:solidFill>
                <a:latin typeface="Calibri"/>
              </a:rPr>
              <a:t>orgánico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Coenzima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PECIFICIDAD DE SUSTRATO. Estereoespecificidad y especificidad geométr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N REGULABLES: su actividad, su degradación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íntesis de la proteína-enzi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Características de las Enzim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Reacción catalizada por una Enz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uno"/>
          <p:cNvPicPr/>
          <p:nvPr/>
        </p:nvPicPr>
        <p:blipFill>
          <a:blip r:embed="rId1"/>
          <a:srcRect l="0" t="6417" r="65664" b="42041"/>
          <a:stretch/>
        </p:blipFill>
        <p:spPr>
          <a:xfrm>
            <a:off x="250920" y="2133720"/>
            <a:ext cx="2448000" cy="1224000"/>
          </a:xfrm>
          <a:prstGeom prst="rect">
            <a:avLst/>
          </a:prstGeom>
          <a:ln w="0">
            <a:noFill/>
          </a:ln>
        </p:spPr>
      </p:pic>
      <p:cxnSp>
        <p:nvCxnSpPr>
          <p:cNvPr id="172" name="AutoShape 9"/>
          <p:cNvCxnSpPr/>
          <p:nvPr/>
        </p:nvCxnSpPr>
        <p:spPr>
          <a:xfrm>
            <a:off x="2999880" y="4500360"/>
            <a:ext cx="715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3" name="AutoShape 10"/>
          <p:cNvCxnSpPr/>
          <p:nvPr/>
        </p:nvCxnSpPr>
        <p:spPr>
          <a:xfrm flipV="1">
            <a:off x="4572000" y="4580640"/>
            <a:ext cx="9151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Text Box 14"/>
          <p:cNvSpPr/>
          <p:nvPr/>
        </p:nvSpPr>
        <p:spPr>
          <a:xfrm>
            <a:off x="5219640" y="5143680"/>
            <a:ext cx="149544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858000" y="5157720"/>
            <a:ext cx="180036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alibri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oup 27" descr=""/>
          <p:cNvPicPr/>
          <p:nvPr/>
        </p:nvPicPr>
        <p:blipFill>
          <a:blip r:embed="rId2"/>
          <a:stretch/>
        </p:blipFill>
        <p:spPr>
          <a:xfrm>
            <a:off x="-128520" y="4211640"/>
            <a:ext cx="3414600" cy="1366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5357880" y="4365720"/>
            <a:ext cx="2922480" cy="503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      +     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8"/>
          <p:cNvGrpSpPr/>
          <p:nvPr/>
        </p:nvGrpSpPr>
        <p:grpSpPr>
          <a:xfrm>
            <a:off x="3224160" y="4394160"/>
            <a:ext cx="1919160" cy="1677600"/>
            <a:chOff x="3224160" y="4394160"/>
            <a:chExt cx="1919160" cy="1677600"/>
          </a:xfrm>
        </p:grpSpPr>
        <p:sp>
          <p:nvSpPr>
            <p:cNvPr id="179" name="Text Box 13"/>
            <p:cNvSpPr/>
            <p:nvPr/>
          </p:nvSpPr>
          <p:spPr>
            <a:xfrm>
              <a:off x="3224160" y="5097960"/>
              <a:ext cx="1919160" cy="9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Complej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s-ES" sz="28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8"/>
            <p:cNvSpPr/>
            <p:nvPr/>
          </p:nvSpPr>
          <p:spPr>
            <a:xfrm>
              <a:off x="3765600" y="4394160"/>
              <a:ext cx="944640" cy="489600"/>
            </a:xfrm>
            <a:prstGeom prst="rect">
              <a:avLst/>
            </a:prstGeom>
            <a:solidFill>
              <a:srgbClr val="348626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0000"/>
                  </a:solidFill>
                  <a:latin typeface="Calibri"/>
                </a:rPr>
                <a:t>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19" descr="uno"/>
          <p:cNvPicPr/>
          <p:nvPr/>
        </p:nvPicPr>
        <p:blipFill>
          <a:blip r:embed="rId3"/>
          <a:srcRect l="62963" t="6417" r="6483" b="36589"/>
          <a:stretch/>
        </p:blipFill>
        <p:spPr>
          <a:xfrm>
            <a:off x="6156360" y="2060640"/>
            <a:ext cx="20876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uno"/>
          <p:cNvPicPr/>
          <p:nvPr/>
        </p:nvPicPr>
        <p:blipFill>
          <a:blip r:embed="rId4"/>
          <a:srcRect l="38176" t="6417" r="42720" b="37289"/>
          <a:stretch/>
        </p:blipFill>
        <p:spPr>
          <a:xfrm>
            <a:off x="3708360" y="2133720"/>
            <a:ext cx="1467000" cy="14396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1"/>
          <p:cNvSpPr/>
          <p:nvPr/>
        </p:nvSpPr>
        <p:spPr>
          <a:xfrm>
            <a:off x="2843280" y="2637000"/>
            <a:ext cx="649080" cy="43164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364000" y="2637000"/>
            <a:ext cx="649440" cy="431640"/>
          </a:xfrm>
          <a:prstGeom prst="rightArrow">
            <a:avLst>
              <a:gd name="adj1" fmla="val 50000"/>
              <a:gd name="adj2" fmla="val 37615"/>
            </a:avLst>
          </a:prstGeom>
          <a:solidFill>
            <a:srgbClr val="348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 flipV="1">
            <a:off x="2340000" y="292392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324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6"/>
          <p:cNvSpPr/>
          <p:nvPr/>
        </p:nvSpPr>
        <p:spPr>
          <a:xfrm flipV="1">
            <a:off x="781200" y="3141360"/>
            <a:ext cx="45720" cy="1073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H="1">
            <a:off x="3354480" y="4653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>
            <a:off x="4858920" y="472428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539640" y="1125360"/>
            <a:ext cx="3384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ALTA 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5435640" y="1125360"/>
            <a:ext cx="201600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Único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897200" y="27860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j: Glucoqui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80000" y="2781360"/>
            <a:ext cx="2160720" cy="5205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9640" y="4133880"/>
            <a:ext cx="482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ESPECIFICIDAD RE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88000" y="4005360"/>
            <a:ext cx="2160720" cy="94716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upo de 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763640" y="54291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j: Hexoquin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5643720" y="5286240"/>
            <a:ext cx="3071520" cy="1442520"/>
          </a:xfrm>
          <a:prstGeom prst="rect">
            <a:avLst/>
          </a:prstGeom>
          <a:solidFill>
            <a:srgbClr val="ff7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Hexo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Glucosa, Fructosa, Man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omic Sans MS"/>
              </a:rPr>
              <a:t>ESPECIFICIDAD </a:t>
            </a: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140360" y="1341360"/>
            <a:ext cx="1223640" cy="28728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4716360" y="285264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708440" y="5572080"/>
            <a:ext cx="792360" cy="433440"/>
          </a:xfrm>
          <a:prstGeom prst="rightArrow">
            <a:avLst>
              <a:gd name="adj1" fmla="val 50000"/>
              <a:gd name="adj2" fmla="val 457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5292720" y="429264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0" y="1257480"/>
            <a:ext cx="4535640" cy="3528720"/>
            <a:chOff x="0" y="1257480"/>
            <a:chExt cx="4535640" cy="3528720"/>
          </a:xfrm>
        </p:grpSpPr>
        <p:pic>
          <p:nvPicPr>
            <p:cNvPr id="204" name="Picture 5" descr="fi11p8"/>
            <p:cNvPicPr/>
            <p:nvPr/>
          </p:nvPicPr>
          <p:blipFill>
            <a:blip r:embed="rId1"/>
            <a:srcRect l="0" t="0" r="54061" b="8640"/>
            <a:stretch/>
          </p:blipFill>
          <p:spPr>
            <a:xfrm>
              <a:off x="0" y="1257480"/>
              <a:ext cx="4535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9"/>
            <p:cNvSpPr/>
            <p:nvPr/>
          </p:nvSpPr>
          <p:spPr>
            <a:xfrm>
              <a:off x="144720" y="1546200"/>
              <a:ext cx="12236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D-Gluc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7" descr="fi11p8"/>
          <p:cNvPicPr/>
          <p:nvPr/>
        </p:nvPicPr>
        <p:blipFill>
          <a:blip r:embed="rId2"/>
          <a:srcRect l="54774" t="11215" r="0" b="6847"/>
          <a:stretch/>
        </p:blipFill>
        <p:spPr>
          <a:xfrm>
            <a:off x="4500720" y="3357720"/>
            <a:ext cx="4462200" cy="3166920"/>
          </a:xfrm>
          <a:prstGeom prst="rect">
            <a:avLst/>
          </a:prstGeom>
          <a:ln w="0">
            <a:noFill/>
          </a:ln>
        </p:spPr>
      </p:pic>
      <p:sp>
        <p:nvSpPr>
          <p:cNvPr id="207" name="Oval 12"/>
          <p:cNvSpPr/>
          <p:nvPr/>
        </p:nvSpPr>
        <p:spPr>
          <a:xfrm>
            <a:off x="2500200" y="5013360"/>
            <a:ext cx="187344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c00000"/>
                </a:solidFill>
                <a:latin typeface="Calibri"/>
              </a:rPr>
              <a:t>Gluc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7"/>
          <p:cNvGrpSpPr/>
          <p:nvPr/>
        </p:nvGrpSpPr>
        <p:grpSpPr>
          <a:xfrm>
            <a:off x="4000680" y="500040"/>
            <a:ext cx="4752360" cy="1154160"/>
            <a:chOff x="4000680" y="500040"/>
            <a:chExt cx="4752360" cy="1154160"/>
          </a:xfrm>
        </p:grpSpPr>
        <p:sp>
          <p:nvSpPr>
            <p:cNvPr id="209" name="Text Box 13"/>
            <p:cNvSpPr/>
            <p:nvPr/>
          </p:nvSpPr>
          <p:spPr>
            <a:xfrm>
              <a:off x="4000680" y="500040"/>
              <a:ext cx="47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GLUCOSA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                GLUCOSA-6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>
              <a:off x="5572440" y="716040"/>
              <a:ext cx="68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5282640" y="1076400"/>
              <a:ext cx="529200" cy="5047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6264360" y="1149120"/>
              <a:ext cx="528840" cy="50508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5810040" y="788760"/>
              <a:ext cx="603720" cy="287640"/>
            </a:xfrm>
            <a:custGeom>
              <a:avLst/>
              <a:gdLst>
                <a:gd name="textAreaLeft" fmla="*/ 105480 w 603720"/>
                <a:gd name="textAreaRight" fmla="*/ 437760 w 603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4"/>
          <p:cNvGrpSpPr/>
          <p:nvPr/>
        </p:nvGrpSpPr>
        <p:grpSpPr>
          <a:xfrm>
            <a:off x="2643120" y="569880"/>
            <a:ext cx="1295640" cy="287280"/>
            <a:chOff x="2643120" y="569880"/>
            <a:chExt cx="1295640" cy="287280"/>
          </a:xfrm>
        </p:grpSpPr>
        <p:sp>
          <p:nvSpPr>
            <p:cNvPr id="215" name="Oval 18"/>
            <p:cNvSpPr/>
            <p:nvPr/>
          </p:nvSpPr>
          <p:spPr>
            <a:xfrm>
              <a:off x="2643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9"/>
            <p:cNvSpPr/>
            <p:nvPr/>
          </p:nvSpPr>
          <p:spPr>
            <a:xfrm>
              <a:off x="2859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0"/>
            <p:cNvSpPr/>
            <p:nvPr/>
          </p:nvSpPr>
          <p:spPr>
            <a:xfrm>
              <a:off x="307512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3291120" y="56988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2"/>
            <p:cNvSpPr/>
            <p:nvPr/>
          </p:nvSpPr>
          <p:spPr>
            <a:xfrm>
              <a:off x="350676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3"/>
            <p:cNvSpPr/>
            <p:nvPr/>
          </p:nvSpPr>
          <p:spPr>
            <a:xfrm>
              <a:off x="3722760" y="569880"/>
              <a:ext cx="21600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6"/>
          <p:cNvGrpSpPr/>
          <p:nvPr/>
        </p:nvGrpSpPr>
        <p:grpSpPr>
          <a:xfrm>
            <a:off x="7129440" y="928800"/>
            <a:ext cx="1728360" cy="459720"/>
            <a:chOff x="7129440" y="928800"/>
            <a:chExt cx="1728360" cy="459720"/>
          </a:xfrm>
        </p:grpSpPr>
        <p:sp>
          <p:nvSpPr>
            <p:cNvPr id="222" name="Text Box 34"/>
            <p:cNvSpPr/>
            <p:nvPr/>
          </p:nvSpPr>
          <p:spPr>
            <a:xfrm>
              <a:off x="8353080" y="9288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35"/>
            <p:cNvGrpSpPr/>
            <p:nvPr/>
          </p:nvGrpSpPr>
          <p:grpSpPr>
            <a:xfrm>
              <a:off x="7129440" y="1025640"/>
              <a:ext cx="1079280" cy="287280"/>
              <a:chOff x="7129440" y="1025640"/>
              <a:chExt cx="1079280" cy="287280"/>
            </a:xfrm>
          </p:grpSpPr>
          <p:sp>
            <p:nvSpPr>
              <p:cNvPr id="224" name="Oval 26"/>
              <p:cNvSpPr/>
              <p:nvPr/>
            </p:nvSpPr>
            <p:spPr>
              <a:xfrm>
                <a:off x="712944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7"/>
              <p:cNvSpPr/>
              <p:nvPr/>
            </p:nvSpPr>
            <p:spPr>
              <a:xfrm>
                <a:off x="7345440" y="102564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8"/>
              <p:cNvSpPr/>
              <p:nvPr/>
            </p:nvSpPr>
            <p:spPr>
              <a:xfrm>
                <a:off x="756108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9"/>
              <p:cNvSpPr/>
              <p:nvPr/>
            </p:nvSpPr>
            <p:spPr>
              <a:xfrm>
                <a:off x="7777080" y="1025640"/>
                <a:ext cx="21600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30"/>
              <p:cNvSpPr/>
              <p:nvPr/>
            </p:nvSpPr>
            <p:spPr>
              <a:xfrm>
                <a:off x="7993080" y="1025640"/>
                <a:ext cx="215640" cy="28728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Oval 31"/>
            <p:cNvSpPr/>
            <p:nvPr/>
          </p:nvSpPr>
          <p:spPr>
            <a:xfrm>
              <a:off x="8208720" y="1025640"/>
              <a:ext cx="215640" cy="287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8569080" y="954000"/>
              <a:ext cx="288720" cy="368280"/>
            </a:xfrm>
            <a:prstGeom prst="rect">
              <a:avLst/>
            </a:prstGeom>
            <a:solidFill>
              <a:srgbClr val="ffd9f5"/>
            </a:solid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31 CuadroTexto"/>
          <p:cNvSpPr/>
          <p:nvPr/>
        </p:nvSpPr>
        <p:spPr>
          <a:xfrm>
            <a:off x="5223600" y="28584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Gluc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7"/>
          <p:cNvSpPr/>
          <p:nvPr/>
        </p:nvSpPr>
        <p:spPr>
          <a:xfrm>
            <a:off x="928800" y="3786120"/>
            <a:ext cx="1728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NZIM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71920" y="3714840"/>
            <a:ext cx="2232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TE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láb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143760" y="3643200"/>
            <a:ext cx="2817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PROTE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(termoe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428760" y="2714760"/>
            <a:ext cx="266364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ff"/>
                </a:solidFill>
                <a:latin typeface="Calibri"/>
              </a:rPr>
              <a:t>HOL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643200" y="2643120"/>
            <a:ext cx="23749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46c0a"/>
                </a:solidFill>
                <a:latin typeface="Calibri"/>
              </a:rPr>
              <a:t>AP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6429240" y="2571840"/>
            <a:ext cx="2160720" cy="520560"/>
          </a:xfrm>
          <a:prstGeom prst="rect">
            <a:avLst/>
          </a:prstGeom>
          <a:solidFill>
            <a:srgbClr val="d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CO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3214800" y="264312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929200" y="2643120"/>
            <a:ext cx="360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4 CuadroTexto"/>
          <p:cNvSpPr/>
          <p:nvPr/>
        </p:nvSpPr>
        <p:spPr>
          <a:xfrm>
            <a:off x="1667880" y="642960"/>
            <a:ext cx="58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omic Sans MS"/>
              </a:rPr>
              <a:t>COMPONENTES DE UNA ENZ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5 CuadroTexto"/>
          <p:cNvSpPr/>
          <p:nvPr/>
        </p:nvSpPr>
        <p:spPr>
          <a:xfrm>
            <a:off x="6652080" y="164304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030a0"/>
                </a:solidFill>
                <a:latin typeface="Arial"/>
              </a:rPr>
              <a:t>COFA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030a0"/>
                </a:solidFill>
                <a:latin typeface="Arial"/>
              </a:rPr>
              <a:t>ENZ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Rectángulo"/>
          <p:cNvSpPr/>
          <p:nvPr/>
        </p:nvSpPr>
        <p:spPr>
          <a:xfrm>
            <a:off x="1428840" y="121428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http://quimicabiologicaunsl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57160" y="2079720"/>
            <a:ext cx="7500960" cy="58536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Impact"/>
              </a:rPr>
              <a:t>Área de Química Biológica - Universidad Nacional de San Luis</a:t>
            </a:r>
            <a:br>
              <a:rPr sz="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4200" y="50112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1859c"/>
                </a:solidFill>
                <a:latin typeface="Comic Sans MS"/>
              </a:rPr>
              <a:t>Blog para el intercambio de infor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Escudo_UNSL.jpg"/>
          <p:cNvPicPr/>
          <p:nvPr/>
        </p:nvPicPr>
        <p:blipFill>
          <a:blip r:embed="rId1"/>
          <a:stretch/>
        </p:blipFill>
        <p:spPr>
          <a:xfrm>
            <a:off x="0" y="1714680"/>
            <a:ext cx="1285920" cy="1447560"/>
          </a:xfrm>
          <a:prstGeom prst="rect">
            <a:avLst/>
          </a:prstGeom>
          <a:ln w="0">
            <a:noFill/>
          </a:ln>
        </p:spPr>
      </p:pic>
      <p:sp>
        <p:nvSpPr>
          <p:cNvPr id="93" name="13 Rectángulo"/>
          <p:cNvSpPr/>
          <p:nvPr/>
        </p:nvSpPr>
        <p:spPr>
          <a:xfrm>
            <a:off x="1285920" y="3143160"/>
            <a:ext cx="4572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icenciatura en Bio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logía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geniería en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alista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ptativo en 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Licenciatura en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cenciatura en Quí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cenciatura y Profesorado en Cienci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2 CuadroTexto"/>
          <p:cNvSpPr/>
          <p:nvPr/>
        </p:nvSpPr>
        <p:spPr>
          <a:xfrm>
            <a:off x="2519280" y="2928960"/>
            <a:ext cx="9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Un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3 CuadroTexto"/>
          <p:cNvSpPr/>
          <p:nvPr/>
        </p:nvSpPr>
        <p:spPr>
          <a:xfrm>
            <a:off x="2291760" y="3714840"/>
            <a:ext cx="152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Un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cc33"/>
                </a:solidFill>
                <a:latin typeface="Arial"/>
              </a:rPr>
              <a:t>(coval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508680" y="7142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030a0"/>
                </a:solidFill>
                <a:latin typeface="Arial"/>
              </a:rPr>
              <a:t>COFA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7030a0"/>
                </a:solidFill>
                <a:latin typeface="Arial"/>
              </a:rPr>
              <a:t>ENZ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 CuadroTexto"/>
          <p:cNvSpPr/>
          <p:nvPr/>
        </p:nvSpPr>
        <p:spPr>
          <a:xfrm>
            <a:off x="3511440" y="16430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Molécula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No Prote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6 CuadroTexto"/>
          <p:cNvSpPr/>
          <p:nvPr/>
        </p:nvSpPr>
        <p:spPr>
          <a:xfrm>
            <a:off x="3293280" y="42876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In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357120" y="3571920"/>
            <a:ext cx="173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6786720" y="1857240"/>
            <a:ext cx="173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9 CuadroTexto"/>
          <p:cNvSpPr/>
          <p:nvPr/>
        </p:nvSpPr>
        <p:spPr>
          <a:xfrm>
            <a:off x="5447880" y="214200"/>
            <a:ext cx="69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Fe 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Mn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70c0"/>
                </a:solidFill>
                <a:latin typeface="Arial"/>
              </a:rPr>
              <a:t>Zn</a:t>
            </a:r>
            <a:r>
              <a:rPr b="1" lang="es-ES_tradnl" sz="1800" spc="-1" strike="noStrike" baseline="30000">
                <a:solidFill>
                  <a:srgbClr val="0070c0"/>
                </a:solidFill>
                <a:latin typeface="Arial"/>
              </a:rPr>
              <a:t> 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0 CuadroTexto"/>
          <p:cNvSpPr/>
          <p:nvPr/>
        </p:nvSpPr>
        <p:spPr>
          <a:xfrm>
            <a:off x="4938120" y="392904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GRU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RO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1 CuadroTexto"/>
          <p:cNvSpPr/>
          <p:nvPr/>
        </p:nvSpPr>
        <p:spPr>
          <a:xfrm>
            <a:off x="5073840" y="314316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4 Cerrar llave"/>
          <p:cNvSpPr/>
          <p:nvPr/>
        </p:nvSpPr>
        <p:spPr>
          <a:xfrm>
            <a:off x="6215040" y="1500120"/>
            <a:ext cx="285840" cy="10000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19 Conector recto de flecha"/>
          <p:cNvCxnSpPr>
            <a:stCxn id="247" idx="3"/>
          </p:cNvCxnSpPr>
          <p:nvPr/>
        </p:nvCxnSpPr>
        <p:spPr>
          <a:xfrm flipV="1">
            <a:off x="2090880" y="3285720"/>
            <a:ext cx="552960" cy="48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4" name="21 Conector recto de flecha"/>
          <p:cNvCxnSpPr>
            <a:stCxn id="247" idx="3"/>
          </p:cNvCxnSpPr>
          <p:nvPr/>
        </p:nvCxnSpPr>
        <p:spPr>
          <a:xfrm>
            <a:off x="2090520" y="3771720"/>
            <a:ext cx="410040" cy="586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5" name="Text Box 17"/>
          <p:cNvSpPr/>
          <p:nvPr/>
        </p:nvSpPr>
        <p:spPr>
          <a:xfrm>
            <a:off x="214200" y="5500800"/>
            <a:ext cx="173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ENZ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24 Conector recto de flecha"/>
          <p:cNvCxnSpPr/>
          <p:nvPr/>
        </p:nvCxnSpPr>
        <p:spPr>
          <a:xfrm flipV="1">
            <a:off x="1999800" y="5571360"/>
            <a:ext cx="715320" cy="15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26 Conector recto de flecha"/>
          <p:cNvCxnSpPr/>
          <p:nvPr/>
        </p:nvCxnSpPr>
        <p:spPr>
          <a:xfrm>
            <a:off x="1999800" y="5786280"/>
            <a:ext cx="71532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Text Box 18"/>
          <p:cNvSpPr/>
          <p:nvPr/>
        </p:nvSpPr>
        <p:spPr>
          <a:xfrm>
            <a:off x="6429240" y="4929120"/>
            <a:ext cx="27147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portadores de grup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6429240" y="5929200"/>
            <a:ext cx="278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ransportadores de electrones y pro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8 Cerrar llave"/>
          <p:cNvSpPr/>
          <p:nvPr/>
        </p:nvSpPr>
        <p:spPr>
          <a:xfrm>
            <a:off x="6215040" y="285840"/>
            <a:ext cx="285840" cy="10000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6715080" y="57168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METALOENZ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41 Conector recto de flecha"/>
          <p:cNvCxnSpPr/>
          <p:nvPr/>
        </p:nvCxnSpPr>
        <p:spPr>
          <a:xfrm>
            <a:off x="3642840" y="3414600"/>
            <a:ext cx="135828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44 Conector recto de flecha"/>
          <p:cNvCxnSpPr/>
          <p:nvPr/>
        </p:nvCxnSpPr>
        <p:spPr>
          <a:xfrm>
            <a:off x="3642840" y="4143240"/>
            <a:ext cx="1358280" cy="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45 Conector recto de flecha"/>
          <p:cNvCxnSpPr/>
          <p:nvPr/>
        </p:nvCxnSpPr>
        <p:spPr>
          <a:xfrm flipV="1">
            <a:off x="2428920" y="713520"/>
            <a:ext cx="71496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46 Conector recto de flecha"/>
          <p:cNvCxnSpPr/>
          <p:nvPr/>
        </p:nvCxnSpPr>
        <p:spPr>
          <a:xfrm>
            <a:off x="2428560" y="1285560"/>
            <a:ext cx="57204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52 CuadroTexto"/>
          <p:cNvSpPr/>
          <p:nvPr/>
        </p:nvSpPr>
        <p:spPr>
          <a:xfrm>
            <a:off x="2785320" y="5286240"/>
            <a:ext cx="157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VITA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53 CuadroTexto"/>
          <p:cNvSpPr/>
          <p:nvPr/>
        </p:nvSpPr>
        <p:spPr>
          <a:xfrm>
            <a:off x="2724840" y="5958000"/>
            <a:ext cx="203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NUCLEÓT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55 Abrir llave"/>
          <p:cNvSpPr/>
          <p:nvPr/>
        </p:nvSpPr>
        <p:spPr>
          <a:xfrm>
            <a:off x="5072040" y="285840"/>
            <a:ext cx="285840" cy="1000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00080"/>
              <a:gd name="textAreaBottom" fmla="*/ 99288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56 Abrir llave"/>
          <p:cNvSpPr/>
          <p:nvPr/>
        </p:nvSpPr>
        <p:spPr>
          <a:xfrm>
            <a:off x="4572000" y="5000760"/>
            <a:ext cx="285840" cy="7855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520"/>
              <a:gd name="textAreaBottom" fmla="*/ 7783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57 Abrir llave"/>
          <p:cNvSpPr/>
          <p:nvPr/>
        </p:nvSpPr>
        <p:spPr>
          <a:xfrm>
            <a:off x="4857840" y="5857920"/>
            <a:ext cx="285840" cy="928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58 CuadroTexto"/>
          <p:cNvSpPr/>
          <p:nvPr/>
        </p:nvSpPr>
        <p:spPr>
          <a:xfrm>
            <a:off x="4793760" y="492912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ridoxal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9 CuadroTexto"/>
          <p:cNvSpPr/>
          <p:nvPr/>
        </p:nvSpPr>
        <p:spPr>
          <a:xfrm>
            <a:off x="5076720" y="59292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63 Cerrar llave"/>
          <p:cNvSpPr/>
          <p:nvPr/>
        </p:nvSpPr>
        <p:spPr>
          <a:xfrm>
            <a:off x="6143760" y="5000760"/>
            <a:ext cx="285480" cy="857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857160"/>
              <a:gd name="textAreaBottom" fmla="*/ 849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64 Cerrar llave"/>
          <p:cNvSpPr/>
          <p:nvPr/>
        </p:nvSpPr>
        <p:spPr>
          <a:xfrm>
            <a:off x="6143760" y="5929200"/>
            <a:ext cx="285480" cy="85752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857520"/>
              <a:gd name="textAreaBottom" fmla="*/ 850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COENZIMAS</a:t>
            </a: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  -  VITAMIN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95280" y="508464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305928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8"/>
          <p:cNvSpPr/>
          <p:nvPr/>
        </p:nvSpPr>
        <p:spPr>
          <a:xfrm>
            <a:off x="2987640" y="3716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72"/>
          <p:cNvGrpSpPr/>
          <p:nvPr/>
        </p:nvGrpSpPr>
        <p:grpSpPr>
          <a:xfrm>
            <a:off x="826920" y="1413000"/>
            <a:ext cx="7994880" cy="439560"/>
            <a:chOff x="826920" y="1413000"/>
            <a:chExt cx="7994880" cy="439560"/>
          </a:xfrm>
        </p:grpSpPr>
        <p:sp>
          <p:nvSpPr>
            <p:cNvPr id="280" name="Text Box 30"/>
            <p:cNvSpPr/>
            <p:nvPr/>
          </p:nvSpPr>
          <p:spPr>
            <a:xfrm>
              <a:off x="826920" y="1484280"/>
              <a:ext cx="1224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Niac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1"/>
            <p:cNvSpPr/>
            <p:nvPr/>
          </p:nvSpPr>
          <p:spPr>
            <a:xfrm>
              <a:off x="2700360" y="1484280"/>
              <a:ext cx="1511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NAD, N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2"/>
            <p:cNvSpPr/>
            <p:nvPr/>
          </p:nvSpPr>
          <p:spPr>
            <a:xfrm>
              <a:off x="4716360" y="1484280"/>
              <a:ext cx="2159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Ion Hidruro (:H </a:t>
              </a:r>
              <a:r>
                <a:rPr b="1" lang="es-ES" sz="1800" spc="-1" strike="noStrike" baseline="30000">
                  <a:solidFill>
                    <a:srgbClr val="c0504d"/>
                  </a:solidFill>
                  <a:latin typeface="Calibri"/>
                </a:rPr>
                <a:t>-</a:t>
              </a: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3"/>
            <p:cNvSpPr/>
            <p:nvPr/>
          </p:nvSpPr>
          <p:spPr>
            <a:xfrm>
              <a:off x="6948360" y="1773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7596360" y="1413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 G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4"/>
            <p:cNvSpPr/>
            <p:nvPr/>
          </p:nvSpPr>
          <p:spPr>
            <a:xfrm>
              <a:off x="234000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5"/>
            <p:cNvSpPr/>
            <p:nvPr/>
          </p:nvSpPr>
          <p:spPr>
            <a:xfrm>
              <a:off x="4284720" y="1700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395280" y="2357280"/>
            <a:ext cx="8353440" cy="370800"/>
            <a:chOff x="395280" y="2357280"/>
            <a:chExt cx="8353440" cy="370800"/>
          </a:xfrm>
        </p:grpSpPr>
        <p:sp>
          <p:nvSpPr>
            <p:cNvPr id="288" name="Text Box 14"/>
            <p:cNvSpPr/>
            <p:nvPr/>
          </p:nvSpPr>
          <p:spPr>
            <a:xfrm>
              <a:off x="395280" y="2357280"/>
              <a:ext cx="208764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Riboflavina (Vit.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916360" y="2357280"/>
              <a:ext cx="12952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FAD, F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4859280" y="235728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6732720" y="2572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8"/>
            <p:cNvSpPr/>
            <p:nvPr/>
          </p:nvSpPr>
          <p:spPr>
            <a:xfrm>
              <a:off x="7740720" y="235728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6"/>
            <p:cNvSpPr/>
            <p:nvPr/>
          </p:nvSpPr>
          <p:spPr>
            <a:xfrm>
              <a:off x="442764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7"/>
            <p:cNvSpPr/>
            <p:nvPr/>
          </p:nvSpPr>
          <p:spPr>
            <a:xfrm>
              <a:off x="2556000" y="2572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74"/>
          <p:cNvGrpSpPr/>
          <p:nvPr/>
        </p:nvGrpSpPr>
        <p:grpSpPr>
          <a:xfrm>
            <a:off x="539640" y="3078000"/>
            <a:ext cx="8353440" cy="370800"/>
            <a:chOff x="539640" y="3078000"/>
            <a:chExt cx="8353440" cy="370800"/>
          </a:xfrm>
        </p:grpSpPr>
        <p:sp>
          <p:nvSpPr>
            <p:cNvPr id="296" name="Text Box 8"/>
            <p:cNvSpPr/>
            <p:nvPr/>
          </p:nvSpPr>
          <p:spPr>
            <a:xfrm>
              <a:off x="539640" y="3078000"/>
              <a:ext cx="180036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Tiamina (Vit. 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843280" y="3078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P-ti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4859280" y="3078000"/>
              <a:ext cx="1440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Aldehí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6877080" y="329364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7667640" y="3078000"/>
              <a:ext cx="12254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,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8"/>
            <p:cNvSpPr/>
            <p:nvPr/>
          </p:nvSpPr>
          <p:spPr>
            <a:xfrm>
              <a:off x="2411280" y="3222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9"/>
            <p:cNvSpPr/>
            <p:nvPr/>
          </p:nvSpPr>
          <p:spPr>
            <a:xfrm>
              <a:off x="4356000" y="3293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6"/>
          <p:cNvGrpSpPr/>
          <p:nvPr/>
        </p:nvGrpSpPr>
        <p:grpSpPr>
          <a:xfrm>
            <a:off x="539640" y="4292640"/>
            <a:ext cx="8352000" cy="642600"/>
            <a:chOff x="539640" y="4292640"/>
            <a:chExt cx="8352000" cy="642600"/>
          </a:xfrm>
        </p:grpSpPr>
        <p:sp>
          <p:nvSpPr>
            <p:cNvPr id="304" name="Text Box 40"/>
            <p:cNvSpPr/>
            <p:nvPr/>
          </p:nvSpPr>
          <p:spPr>
            <a:xfrm>
              <a:off x="539640" y="4437000"/>
              <a:ext cx="1656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fól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2916360" y="4508640"/>
              <a:ext cx="1439640" cy="405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TH</a:t>
              </a:r>
              <a:r>
                <a:rPr b="1" lang="es-ES" sz="1800" spc="-1" strike="noStrike" baseline="-25000">
                  <a:solidFill>
                    <a:srgbClr val="ff505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2"/>
            <p:cNvSpPr/>
            <p:nvPr/>
          </p:nvSpPr>
          <p:spPr>
            <a:xfrm>
              <a:off x="4859280" y="4292640"/>
              <a:ext cx="2158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   monocarbon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7524720" y="4292640"/>
              <a:ext cx="13669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Ser-Tre Deshidra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7093080" y="45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450072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2340000" y="4653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78"/>
          <p:cNvGrpSpPr/>
          <p:nvPr/>
        </p:nvGrpSpPr>
        <p:grpSpPr>
          <a:xfrm>
            <a:off x="611280" y="6021360"/>
            <a:ext cx="7993080" cy="642600"/>
            <a:chOff x="611280" y="6021360"/>
            <a:chExt cx="7993080" cy="642600"/>
          </a:xfrm>
        </p:grpSpPr>
        <p:sp>
          <p:nvSpPr>
            <p:cNvPr id="312" name="Text Box 36"/>
            <p:cNvSpPr/>
            <p:nvPr/>
          </p:nvSpPr>
          <p:spPr>
            <a:xfrm>
              <a:off x="611280" y="6093000"/>
              <a:ext cx="165708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lipo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8"/>
            <p:cNvSpPr/>
            <p:nvPr/>
          </p:nvSpPr>
          <p:spPr>
            <a:xfrm>
              <a:off x="2916360" y="609300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Lipoam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9"/>
            <p:cNvSpPr/>
            <p:nvPr/>
          </p:nvSpPr>
          <p:spPr>
            <a:xfrm>
              <a:off x="4932360" y="6021360"/>
              <a:ext cx="194472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Electrones y grupos acilo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0"/>
            <p:cNvSpPr/>
            <p:nvPr/>
          </p:nvSpPr>
          <p:spPr>
            <a:xfrm>
              <a:off x="6948360" y="638172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1"/>
            <p:cNvSpPr/>
            <p:nvPr/>
          </p:nvSpPr>
          <p:spPr>
            <a:xfrm>
              <a:off x="7812000" y="6165720"/>
              <a:ext cx="792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P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2"/>
            <p:cNvSpPr/>
            <p:nvPr/>
          </p:nvSpPr>
          <p:spPr>
            <a:xfrm>
              <a:off x="2484360" y="6237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4"/>
            <p:cNvSpPr/>
            <p:nvPr/>
          </p:nvSpPr>
          <p:spPr>
            <a:xfrm>
              <a:off x="4572000" y="630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7"/>
          <p:cNvGrpSpPr/>
          <p:nvPr/>
        </p:nvGrpSpPr>
        <p:grpSpPr>
          <a:xfrm>
            <a:off x="539640" y="5157720"/>
            <a:ext cx="8352000" cy="642600"/>
            <a:chOff x="539640" y="5157720"/>
            <a:chExt cx="8352000" cy="642600"/>
          </a:xfrm>
        </p:grpSpPr>
        <p:sp>
          <p:nvSpPr>
            <p:cNvPr id="320" name="Text Box 20"/>
            <p:cNvSpPr/>
            <p:nvPr/>
          </p:nvSpPr>
          <p:spPr>
            <a:xfrm>
              <a:off x="539640" y="5229360"/>
              <a:ext cx="1728720" cy="3708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Piridoxina (B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1"/>
            <p:cNvSpPr/>
            <p:nvPr/>
          </p:nvSpPr>
          <p:spPr>
            <a:xfrm>
              <a:off x="2916360" y="5229360"/>
              <a:ext cx="1439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P-piridox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4932360" y="5157720"/>
              <a:ext cx="2016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Transferencia grupos ami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7451640" y="5157720"/>
              <a:ext cx="144000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ransam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7020000" y="551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1"/>
            <p:cNvSpPr/>
            <p:nvPr/>
          </p:nvSpPr>
          <p:spPr>
            <a:xfrm>
              <a:off x="2340000" y="5373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5"/>
            <p:cNvSpPr/>
            <p:nvPr/>
          </p:nvSpPr>
          <p:spPr>
            <a:xfrm>
              <a:off x="4427640" y="5445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5"/>
          <p:cNvGrpSpPr/>
          <p:nvPr/>
        </p:nvGrpSpPr>
        <p:grpSpPr>
          <a:xfrm>
            <a:off x="395280" y="3654360"/>
            <a:ext cx="8353440" cy="511200"/>
            <a:chOff x="395280" y="3654360"/>
            <a:chExt cx="8353440" cy="511200"/>
          </a:xfrm>
        </p:grpSpPr>
        <p:sp>
          <p:nvSpPr>
            <p:cNvPr id="328" name="Text Box 47"/>
            <p:cNvSpPr/>
            <p:nvPr/>
          </p:nvSpPr>
          <p:spPr>
            <a:xfrm>
              <a:off x="395280" y="3797280"/>
              <a:ext cx="2232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do pantotén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9"/>
            <p:cNvSpPr/>
            <p:nvPr/>
          </p:nvSpPr>
          <p:spPr>
            <a:xfrm>
              <a:off x="2916360" y="3797280"/>
              <a:ext cx="158436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5050"/>
                  </a:solidFill>
                  <a:latin typeface="Calibri"/>
                </a:rPr>
                <a:t>Coenzim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2"/>
            <p:cNvSpPr/>
            <p:nvPr/>
          </p:nvSpPr>
          <p:spPr>
            <a:xfrm>
              <a:off x="4932360" y="3797280"/>
              <a:ext cx="165564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504d"/>
                  </a:solidFill>
                  <a:latin typeface="Calibri"/>
                </a:rPr>
                <a:t>Grupos ac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3"/>
            <p:cNvSpPr/>
            <p:nvPr/>
          </p:nvSpPr>
          <p:spPr>
            <a:xfrm>
              <a:off x="6948360" y="3941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6"/>
            <p:cNvSpPr/>
            <p:nvPr/>
          </p:nvSpPr>
          <p:spPr>
            <a:xfrm>
              <a:off x="4572000" y="4014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7"/>
            <p:cNvSpPr/>
            <p:nvPr/>
          </p:nvSpPr>
          <p:spPr>
            <a:xfrm>
              <a:off x="2627280" y="4014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68"/>
            <p:cNvSpPr/>
            <p:nvPr/>
          </p:nvSpPr>
          <p:spPr>
            <a:xfrm>
              <a:off x="7740720" y="3654360"/>
              <a:ext cx="1008000" cy="3682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504d"/>
                  </a:solidFill>
                  <a:latin typeface="Calibri"/>
                </a:rPr>
                <a:t>Tiol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984807"/>
                </a:solidFill>
                <a:latin typeface="Calibri"/>
              </a:rPr>
              <a:t>Enzimas que requieren</a:t>
            </a: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Iones Metálicos como COFACTORES</a:t>
            </a:r>
            <a:br>
              <a:rPr sz="2900"/>
            </a:b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(METALOENZIM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39640" y="1773360"/>
            <a:ext cx="244800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er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419640" y="2133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"/>
          <p:cNvSpPr/>
          <p:nvPr/>
        </p:nvSpPr>
        <p:spPr>
          <a:xfrm>
            <a:off x="5796000" y="1628640"/>
            <a:ext cx="1440000" cy="115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ó 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50800" y="3357720"/>
            <a:ext cx="25923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Anhidrasa carb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350028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5929200" y="3068640"/>
            <a:ext cx="1008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571680" y="4076640"/>
            <a:ext cx="2520720" cy="1202760"/>
          </a:xfrm>
          <a:prstGeom prst="rect">
            <a:avLst/>
          </a:prstGeom>
          <a:solidFill>
            <a:srgbClr val="ddddd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Hex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Glucosa-6-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84807"/>
                </a:solidFill>
                <a:latin typeface="Calibri"/>
              </a:rPr>
              <a:t>Piruvato 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3500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6"/>
          <p:cNvSpPr/>
          <p:nvPr/>
        </p:nvSpPr>
        <p:spPr>
          <a:xfrm>
            <a:off x="6000840" y="4292640"/>
            <a:ext cx="1008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" sz="18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COMPARTIMENTALIZACION: Diferente localización dentro de la célula 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(Enzimas mitocondriales, liosomales, citosólicas, de membran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SISTEMAS MULTIENZIMATICOS: Enzimas relacionadas, ordenadas espacialmente en una secuencia de reacciones (Ej: Cadena respiratoria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ENZIMAS MULTIFUNCIONALES: Una enzima que presenta distintos sitios catalíticos que catalizan deferentes reacciones (Ej: Acido gras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00000"/>
                </a:solidFill>
                <a:latin typeface="Calibri"/>
              </a:rPr>
              <a:t>DISTRIBUCIÓN DE LAS ENZI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Rectángulo"/>
          <p:cNvSpPr/>
          <p:nvPr/>
        </p:nvSpPr>
        <p:spPr>
          <a:xfrm>
            <a:off x="571680" y="2142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PROGRAMA ANALITICO Y/O DE EXAM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7 CuadroTexto"/>
          <p:cNvSpPr/>
          <p:nvPr/>
        </p:nvSpPr>
        <p:spPr>
          <a:xfrm>
            <a:off x="366120" y="0"/>
            <a:ext cx="78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LIC. NUTRICIÓN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400" spc="-1" strike="noStrike">
                <a:solidFill>
                  <a:srgbClr val="c00000"/>
                </a:solidFill>
                <a:latin typeface="Calibri"/>
              </a:rPr>
              <a:t>QCA. BI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214200" y="2643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500040" y="571680"/>
            <a:ext cx="785808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Arial"/>
              </a:rPr>
              <a:t>Tema 1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roducción a l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Bioquímica de la Nutrició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Objeto de estudio. Relación con otras ramas de las ciencias biológicas y de la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uestos constituyentes de la materia viv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de los nutrientes y otros componentes dietéticos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o de Metaboli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nabolismo y catabolismo. Vías, ciclos y cascadas metabólicas</a:t>
            </a:r>
            <a:r>
              <a:rPr b="0" lang="en-US" sz="2000" spc="-1" strike="noStrike">
                <a:solidFill>
                  <a:srgbClr val="3f0a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Enzimas. </a:t>
            </a:r>
            <a:r>
              <a:rPr b="0" lang="es-AR" sz="2400" spc="-1" strike="noStrike">
                <a:solidFill>
                  <a:srgbClr val="0000ff"/>
                </a:solidFill>
                <a:latin typeface="Arial"/>
              </a:rPr>
              <a:t>Caracteres generales. Nomenclatura y clasificación. Coenzimas. Cinética enzimática. Factores que afectan la actividad enzimática: temperatura, pH, concentración de enzima y concentración de sustrato. Ecuación de Michaelis-Menten. Inhibición de enzimas, competitiva y no competitiva. Regulación enzimática: compartimentalización, enzimas alostéricas, modificación por unión covalente. Isoenzimas. Zimóg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Qué so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NZIM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son macromoléculas que tienen la capacidad de AUMENTAR LA VELOCIDAD de las reacciones, por ello se denominan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es bi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ataliz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agente capaz de acelerar una reacción química, sin formar parte de los productos formados, ni desgastarse en el proce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CuadroTexto"/>
          <p:cNvSpPr/>
          <p:nvPr/>
        </p:nvSpPr>
        <p:spPr>
          <a:xfrm>
            <a:off x="500040" y="928800"/>
            <a:ext cx="8286840" cy="4480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de las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</a:rPr>
              <a:t>ENZIMAS (E)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PROTEÍN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 la excepción de un pequeño grupo de moléculas de RNA catalítico, llamadas </a:t>
            </a:r>
            <a:r>
              <a:rPr b="1" lang="es-AR" sz="3200" spc="-1" strike="noStrike">
                <a:solidFill>
                  <a:srgbClr val="00b050"/>
                </a:solidFill>
                <a:latin typeface="Arial"/>
              </a:rPr>
              <a:t>ribozimas.</a:t>
            </a:r>
            <a:r>
              <a:rPr b="0" lang="es-AR" sz="32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La actividad catalítica depende de la integridad de su conformación prote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475920" y="214200"/>
            <a:ext cx="83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¿Cuál es la naturaleza química de las Enzi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480" y="829800"/>
            <a:ext cx="8643960" cy="48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Las enzimas deben ser sintetizadas correctamente, con las estructuras proteicas: primaria, secundaria, terciaria y cuaternaria si la tuvi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cc0099"/>
                </a:solidFill>
                <a:latin typeface="Arial"/>
                <a:ea typeface="Arial"/>
              </a:rPr>
              <a:t>Cualquier alteración de la síntesis de estas proteínas puede llevar a una patolog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990000"/>
                </a:solidFill>
                <a:latin typeface="Arial"/>
                <a:ea typeface="Arial"/>
              </a:rPr>
              <a:t>A veces estas alteraciones puede solucionarse con cambios en la dieta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sustancia sobre las cuales actúan se denominan </a:t>
            </a:r>
            <a:r>
              <a:rPr b="0" lang="es-ES" sz="3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STRA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CuadroTexto"/>
          <p:cNvSpPr/>
          <p:nvPr/>
        </p:nvSpPr>
        <p:spPr>
          <a:xfrm>
            <a:off x="285840" y="1928880"/>
            <a:ext cx="8572320" cy="3229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Ningún ser vivo puede vivir sin las ENZ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La mayoría de las reacciones deben ser catalizadas para que ocurran en el tiempo y el momento que la célula lo requ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solidFill>
            <a:srgbClr val="d9d9d9"/>
          </a:solidFill>
          <a:ln w="9360">
            <a:solidFill>
              <a:srgbClr val="5a1ae8"/>
            </a:solidFill>
            <a:miter/>
          </a:ln>
        </p:spPr>
        <p:txBody>
          <a:bodyPr anchor="t">
            <a:normAutofit fontScale="94000"/>
          </a:bodyPr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Transformación (síntesis) de moléculas de nutrientes simples en moléculas mas complejas, y viceversa (degradació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Extracción de energía desde combustibles o compuestos degradables por oxid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Berlin Sans FB"/>
              </a:rPr>
              <a:t>Polimerización de subunidades para formar macromolécul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omic Sans MS"/>
              </a:rPr>
              <a:t>¿Qué funciones tienen las Enzi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85640" y="1142640"/>
            <a:ext cx="8229600" cy="4786200"/>
          </a:xfrm>
          <a:prstGeom prst="rect">
            <a:avLst/>
          </a:prstGeom>
          <a:solidFill>
            <a:srgbClr val="d9d9d9"/>
          </a:solidFill>
          <a:ln w="38160">
            <a:solidFill>
              <a:srgbClr val="5a1ae8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nsformación de moléculas complejas en moléculas simples y vice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5a1ae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Ejemplos de transformaciones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omic Sans MS"/>
              </a:rPr>
              <a:t>mediadas por Enzima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857160" y="2575080"/>
            <a:ext cx="1440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785880" y="343836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785880" y="4375080"/>
            <a:ext cx="143964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RR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513160" y="2646360"/>
            <a:ext cx="792000" cy="2303640"/>
          </a:xfrm>
          <a:custGeom>
            <a:avLst/>
            <a:gdLst>
              <a:gd name="textAreaLeft" fmla="*/ 0 w 792000"/>
              <a:gd name="textAreaRight" fmla="*/ 285840 w 792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162240" y="3149640"/>
            <a:ext cx="1656000" cy="100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M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962600" y="3222720"/>
            <a:ext cx="863640" cy="217440"/>
          </a:xfrm>
          <a:custGeom>
            <a:avLst/>
            <a:gdLst>
              <a:gd name="textAreaLeft" fmla="*/ 151200 w 863640"/>
              <a:gd name="textAreaRight" fmla="*/ 626400 w 8636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000240" y="4807080"/>
            <a:ext cx="2394000" cy="693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LUCO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6257880" y="4662360"/>
            <a:ext cx="2232000" cy="93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(GLUCOSA)</a:t>
            </a:r>
            <a:r>
              <a:rPr b="1" lang="es-AR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5465520" y="502272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5826240" y="2933640"/>
            <a:ext cx="2303280" cy="100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 (GL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 flipH="1">
            <a:off x="5393880" y="250200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5249880" y="2214720"/>
            <a:ext cx="1728720" cy="50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6834240" y="3870360"/>
            <a:ext cx="287280" cy="792000"/>
          </a:xfrm>
          <a:prstGeom prst="downArrow">
            <a:avLst>
              <a:gd name="adj1" fmla="val 50000"/>
              <a:gd name="adj2" fmla="val 68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6329520" y="4014720"/>
            <a:ext cx="172872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Calibri"/>
              </a:rPr>
              <a:t>ENZ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7:57:39Z</dcterms:created>
  <dc:creator>ali y facu</dc:creator>
  <dc:description/>
  <dc:language>en-US</dc:language>
  <cp:lastModifiedBy>ali y facu</cp:lastModifiedBy>
  <dcterms:modified xsi:type="dcterms:W3CDTF">2015-08-14T06:58:01Z</dcterms:modified>
  <cp:revision>75</cp:revision>
  <dc:subject/>
  <dc:title>Diapositiva 1</dc:title>
</cp:coreProperties>
</file>